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050A8-EE83-496D-9D1E-71848BA3E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-bit signed format is in the form of one signed bit, four int bits, and eight fraction bits, giving a dynamic range of +- 16.0, where a current card has a range of 0-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ing slides show how clampling to 0-16 enhances image quality without much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use iterated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bright lighting used with only one texture. Iterated diffuse color is clamped to a larger range through rampage pipe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lly bright lights turn most objects, white (wash out), almost regardless or surface color or light colo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ptions: Surfaces/lights that are pure Red, Green or Blue. Police car lights are an example here. (Cop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le ligh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bient light is still gre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viously a purple light turns an object Pur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aling Gary’s idea of giving away big money prizes to keep people interested in the 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ight image is created by traditional hardware. Overbright purple light gets clamped at 1.0, creating a non-overbright white light, causing the object to appear green instead of pur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an astetic point of view, Left image is the “right one”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up: Four lines of code. One enabling larger clamp range in hardwar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ther three for changing the clamp value to 0-15.ff instead of 0-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ene from a top-selling movi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computer gener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d washed-out area in the background. Notice blurring of detail because of the high intensity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y Halo Demo now. Point out key features. Mentioned “exaggerated effect” to be noticable on a low-res projection moni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 HALO D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rg running four-pass, voodoo3, eight textures tot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through each of the textures, one by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Surface Tex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D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D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D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Light 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Light 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Reflection map/gloss 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Environment ma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up: This was shown at TI 1998 (Verify with Gar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istance is Fut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multiple lightmap demo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cene (not a CGI scene), shows how to use the borg effect on a more day to day scen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the pavement. Wet pavement at night is used a lot in moves: it looks a lot better than dry pav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use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ed diffuse light map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ss map, for moist areas. Alpha channel could indicate where puddles are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ular environment map. May also need a detail map. Could be a bump env. Ma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ion map, applied to puddles. are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need multiple projection/ reflection maps, for all the lights at different lo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Generation Video engine includes enhanced MPEG support, better Scaling, Flicker filtering, advanced deinterlaced filtering (above bob or weave), and temporal filte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 running predator demo, then NPR rendering demos, while showing thi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rox G400 already does 1-level recursion, for environment bump mapping. Rampage’s much more flexible. BumpEnv mapping is a subset of recursive textur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original npr.z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soft shadow demo during this slide, to show what single-light source shadows can look li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textures, completely independant, regardless of filtering type or number of pixel pipes, or whether AA is turned on or n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erators. Multiple iterators used for iterating non-colors: Normals, transform matrices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ursion means using output of pixel shader to modify texture address coordinates, similar to a cpu’s index addressing mo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ure computer is our version of a pixel sha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 philosophy: textures are multi-dimensional arrays, useful as surface data, light data,1D and 2D t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around quad operand : (A+/-B)*C+D. Can build blends, macs, other ops out of this basic fucn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based multiplexing useful for clamping, piecewise linear functions, min/max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show off uses for the compare based multiplexing and output summing in demos l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movie loop at same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able Anisotropic means with enough precision and enough taps and precision to give the sharpest possible images possible, with no aliasing artifacts during mo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tering type orthogonal to all other operations, number of texutres, shading modes, etc. Allows for easy integration into any appl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 to 128 taps, real images show only a 50% performance drop from biline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erior to trilinear, since trilinear blurs im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9FBC-730B-405D-95E0-98EF8AE69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676160" y="4028400"/>
            <a:ext cx="6933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1834-17EB-4E45-88FD-09883C137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676160" y="40284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29360" y="40284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F340-3ABB-4912-A10E-D27527E29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020480" y="16002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64800" y="16002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676160" y="40284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020480" y="40284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64800" y="40284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7E7C-3801-4110-BA2C-38B0EDD67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0482-274F-40F7-B81F-43D4CBCEA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0313-9B3D-4615-AEEE-F3C862B10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291A-9E9C-4CBB-AE93-871C64317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4904-E474-4DD5-BF70-60A4F0769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76160" y="151920"/>
            <a:ext cx="69339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858A-DEFD-4143-88F2-DFA26033F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676160" y="40284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12D8-E472-439C-937A-79F5AE1D5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29360" y="40284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49F0-16CB-4A51-AE75-9AB2C5BD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676160" y="4028400"/>
            <a:ext cx="6933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3AC7-41A9-4C9B-BE33-98B1D5C5B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mersion1" descr="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676160" y="655272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809880" y="6552720"/>
            <a:ext cx="2819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552720"/>
            <a:ext cx="1752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D209A-8C5F-4640-85C3-E873386108E0}" type="slidenum">
              <a:rPr b="0" lang="en-US" sz="1400" spc="-1" strike="noStrike">
                <a:solidFill>
                  <a:srgbClr val="ff99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562720" y="6553080"/>
            <a:ext cx="2819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Times New Roman"/>
              </a:rPr>
              <a:t>Proprietary and Confiden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Rampage Texturing and Shading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098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Emmett Kilgariff, VP of Architecture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emmett@3dfx.com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3/9/00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Texture Computer/Pixel Shader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576440" y="1641600"/>
          <a:ext cx="7567560" cy="52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6440" y="1641600"/>
                    <a:ext cx="7567560" cy="52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EE26-1FCA-477C-B2AD-89335F1BBF0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Uses: Higher bit precision.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13 bit signed colors (overbright colors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Reduces darkening associated with multi-texturing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Allows for “wash out” effect prevalent in cinema and video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Surface attenuations goes from 0 to 1.0, but light intensity can go from 0 to infinity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Useful in scenes with sunlight or nighttime scenes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Higher precision for environment bump mapping matrix multiply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Lighting engine could easily be changed to clamp from 0 - 16 instead of 0-1 giving overbright iterated lighting automatically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720E-0236-4CCB-9D3B-FF4D7502C26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Arial"/>
              </a:rPr>
              <a:t>Vertex Ligting: </a:t>
            </a: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90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Green Textured Martini Glas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19280" y="1600200"/>
            <a:ext cx="3390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Lit with White Light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(230,230,230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590920" y="3276720"/>
            <a:ext cx="1638360" cy="23540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791320" y="3124080"/>
            <a:ext cx="1692000" cy="2416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C8E9-3C42-4D3A-8E86-8DC73C761B0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Bright Lights- 4x brighter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90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Light clamped to 1.0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19280" y="1600200"/>
            <a:ext cx="3390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Light Clamped to 16.0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209680" y="2971800"/>
            <a:ext cx="2027520" cy="2293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791320" y="2819520"/>
            <a:ext cx="2027160" cy="24159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13F1-4036-46FF-AF9A-318BE187692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Arial"/>
              </a:rPr>
              <a:t>Colored Lights</a:t>
            </a: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90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Green Textured Martini Glas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19280" y="1600200"/>
            <a:ext cx="3390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Purple”  Light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(230,75,230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209680" y="2895480"/>
            <a:ext cx="1692360" cy="24163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638680" y="2895480"/>
            <a:ext cx="1920960" cy="23702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F027-7AA8-45AE-A090-DAB305E0B7A0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Quiz Question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905120" y="121896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The light gets much brighter (4x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Which image does traditional HW generate?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52480" y="5334120"/>
            <a:ext cx="7239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Follow up question: How many lines of code changed in the Lighting engine to generate the other imag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638680" y="2666880"/>
            <a:ext cx="1806840" cy="24685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286000" y="2743200"/>
            <a:ext cx="1959120" cy="232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1E0B-13ED-46C4-814D-E5CE4A31366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Arial"/>
              </a:rPr>
              <a:t>Overbright Lighting</a:t>
            </a: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69339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15EA-567A-42B7-941B-942AF4EA6A82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Uses: Massive Multi-texturing.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Multiple light maps: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(Diffuse surface  * diffuse light) + (specular surface * specular light)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Specular surface * iterated specular + (diffuse light * diffuse surface)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Multiple specular maps and properties (water on pavement at night 6 textures)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Multiple projected texture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Each possibly with its own shadow map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Noise functions, other methods of combining textures to simulate physical motion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water, fire, clouds, etc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5C4B-6FE9-42BA-B79D-55324FE3E413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The Borg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Quiz Question: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How Many textures are used the surface of the cube?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Follow up question: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At which year’s total immersion, was this demo first shown?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Follow-up Follow-up question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What is resistance?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A396-8204-41E6-A75C-19EE51206925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Arial"/>
              </a:rPr>
              <a:t>Massive Multi-texturing</a:t>
            </a: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69339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EB33-3303-48F5-9FF8-DDFAECD4B8B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Rampage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Next Generation Rendering Engine (VTA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Next Generation Video Engine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16M tri/sec, 800MP/sec, Single textured.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rogrammable Shading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Higher quality filtering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T-buffer based AA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AA With 2 textures and Anisotropic with no performance hit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AA With 4 textures with no performance hit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Scalable Architecture 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Integrated Bridge functionality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Full AGP Support in SLI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E0D6-36A2-48EB-8CAF-543BE93832CC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Uses: Advanced Recursion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iffuse bump , specular bump, reflective bump maps combined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Each bump map disturbs coordinates of a different texture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Use scaling of recursive data to make for subtle bump map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Uneven tile floor, slightly distorted glass, etc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Combine bump maps together then recurse.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Ripples on water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Bump maps affecting other bump map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2, 3 or 4 sets of recursions; fluids, turbulence, etc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Non-photo realistic rendering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A2C3-C47F-4116-B23F-B2DCBDC24FAA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Uses: Multiple Shadows.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Shadow lights, Sum lights together, then modulate surface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Modified stencil buffer trick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Use Pe’s Xor function, and ARGB channels to model up to four shadow sources.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Texture chroma compare w/percentage passed used to identify when pixel is lit by light.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Object ID based shadowing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Shadow  map projected from light source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contains object ID of lit object in RGB channel. 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Use percentage passed to select in/out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Advanced Object ID shadowing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Projected texture: RGB contain light, Alpha Object ID of surface lit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Alpha channel used to  compare against Object ID, along with “never shadowing objects”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Traditional chroma used to let light through or set to zero on a per-texel basis.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7A05-D67A-4C8C-B35C-294E580F677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Shadow Demo </a:t>
            </a: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CFEA-5074-425E-9092-BDA9F85F1F2B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Uses: Miscellaneous.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The Iris effect.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Do all lighting /texturing in 13 bit space, then use a constant color register to scale the range based on the average intensity of the image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t Product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Three term (R0*R1 + G0*G1 + B0*B1)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Four term (A0*A1 + R0*R1 + G0*G1 + B0*B1)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Min/Max affect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Used in Halo Demo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C59E-154D-4DCE-B064-7C138B912E2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Flexible combinations of up to eight texture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Flexible selection of filtering mode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per-texel operation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flexible texture computer with higher bit precision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imple address ops based on texture computer output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Of course, this adds “flexibility”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FAA9-98AA-41D7-9183-E89A6383834C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Thanks for the images &amp; Demos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Denis Amselem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Hubert Nguyen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Houman Meshkin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Jeff White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Gary Tarolli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67E1-6A1D-422D-94C8-CCF2A62B83B7}" type="slidenum">
              <a:t>25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Rampage Features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76080" y="1295280"/>
            <a:ext cx="756756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Massive Multitexturing: 8 textures each with different filtering: point, bilinear, trilinear, anisotropic (up to 128-tap). 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Massive Iterators: 8 ARGBSTW iterators: one per texture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Texture Recursion (Address ops) : recursion in parallel or series on up to 4 textures 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Any combination of 4 recursions on the 8 available textures)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Recursion allows one texture to perturb the values of another texture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Two recursion modes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Before and after W divide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Applicable for bump mapping and procedural textures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Risc-like address op instruction model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Cubic Environment Mapping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Texture Compression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DirectX/DXT (all formats) ,FXT1 compressed textures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YUV Texture formats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0AB6-68E8-4020-A299-645C9D0089D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Arial"/>
              </a:rPr>
              <a:t>Rampage Features (Continued)</a:t>
            </a: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76160" y="1371600"/>
            <a:ext cx="6933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Texture Computer (Pixel Shader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Massive flexible math capability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texture combine unit: (a+b)*c+d feeding... 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...color combine unit: (A+B)*C+D where each abcd and ABCD can be: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from any of iterator, texture, previous, registered and constant values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manipulated independently with: x, -x, 1-x and x-0.5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Compare based multiplexing: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texture and color: combine unit: (a-b)? c:d and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texture combine unit output summing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R+G+B may feed 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color combine unit: .(a+b)*c+d, alpha and/or color channels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Useful for intensity ops, dot products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Register based combiner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Allows for Sum of products, products of sums, etc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8193-725B-4DFF-A41B-ED0964C3F6E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Rampage Features (Continued)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Larger color component precision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13 bits per component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Precision maintained through alpha blenders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Alpha Blender Logic Ops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Quad pixel pipeline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4 pixels-per-clock single textured (per chip)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4/N pixels per clock for N textures (per chip)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Scalable rendering: Up to four chips ganged together. No bridge chip required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Optimized Geometry Pipeline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Viewport Transforms and efficient host/graphics IO yield optimum performance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Works with (or without) Sage geometry co-processor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385B-D88F-4412-AF4A-D97FFDA1CC4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76160" y="68544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Why do we need massive multi-texturing if we have T&amp;L?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76160" y="2666520"/>
            <a:ext cx="693396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Per pixel lighting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hadow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Multiple light and surface map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Modeling physical properties.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4CC5-915C-403F-9CE8-67577C60F40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Programming Flexibility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Each texture has totally independent programming state.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STG: Recursion Data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Before Perspective correct divide or after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Recursive data can be scaled by a power of 2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Address = Iterator + (offset &lt;&lt; n)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Recursion can be turned off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Filter Control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Mipmapping control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Point sampled, bilinear, trilinear, anisotropic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One map of many can be anisotropic without slowing the other textures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4 through 128 tap filtering selectable per-texture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C269-5666-4C25-84A8-5FAC397A24F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Programming Flexibility (continued)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Per-texel operations (texture chroma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Chroma on value or range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Flexible RGB controls.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RGB compares can be replaced with Alpha (3 compares).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Traditional chroma (replace with black) Chroma Replace, Percentage passed modes.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Useful for smooth chroma-key effects, shadows, etc.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D92C-C9F2-4521-BD85-BDAB8E74D79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6933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Anisotropic Filtering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76160" y="4343400"/>
            <a:ext cx="69339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Rampage enables usable anisotropic filtering for the first time in a cost effective personal computer environment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Far superior to trilinear filtering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523880" y="837360"/>
            <a:ext cx="3695760" cy="3296160"/>
            <a:chOff x="1523880" y="837360"/>
            <a:chExt cx="3695760" cy="3296160"/>
          </a:xfrm>
        </p:grpSpPr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1523880" y="1247400"/>
              <a:ext cx="3695760" cy="288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2669760" y="83736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d6637"/>
                  </a:solidFill>
                  <a:latin typeface="Arial"/>
                </a:rPr>
                <a:t>Trilin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5257800" y="837360"/>
            <a:ext cx="3695760" cy="3299400"/>
            <a:chOff x="5257800" y="837360"/>
            <a:chExt cx="3695760" cy="3299400"/>
          </a:xfrm>
        </p:grpSpPr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5257800" y="1250640"/>
              <a:ext cx="3695760" cy="288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6494040" y="837360"/>
              <a:ext cx="130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d6637"/>
                  </a:solidFill>
                  <a:latin typeface="Arial"/>
                </a:rPr>
                <a:t>Anisotropi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2E9C-6EB8-4B34-9D3B-6FE79EAB59A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6T03:29:20Z</dcterms:created>
  <dc:creator>3Dfx</dc:creator>
  <dc:description/>
  <dc:language>en-US</dc:language>
  <cp:lastModifiedBy>Preferred Customer</cp:lastModifiedBy>
  <dcterms:modified xsi:type="dcterms:W3CDTF">2000-08-01T02:05:24Z</dcterms:modified>
  <cp:revision>26</cp:revision>
  <dc:subject>Rampage Overview</dc:subject>
  <dc:title>Immersion 2000</dc:title>
</cp:coreProperties>
</file>